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607-FC6E-4E6E-9E09-043E469A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08A-14AA-44AF-A11F-466AFFCC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FA8-AE5F-4DD0-8FE4-80B3B169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EF8-FD1C-4169-AF6D-B7225A57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F95-D5BF-43F7-B86E-52C33DD8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FED-F181-4C82-8E92-3FB5C18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F2A-E6E2-409A-8AD0-783522A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E06-81C2-4E93-A97B-0413634C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3D6-D4EE-4534-B9E7-737B8FF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E54-5471-40B8-A862-58360EA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73F-86C4-4713-8AED-E1FFE6D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A3B-5B71-4003-8725-C3A14AB1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3EB02-CCCD-4A40-B5E7-C091639CCA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2C965-CACC-4F73-A870-BD2D8E8FD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2844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3019320" y="863640"/>
            <a:ext cx="244152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6477120" y="86364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4"/>
          <a:stretch/>
        </p:blipFill>
        <p:spPr>
          <a:xfrm>
            <a:off x="679320" y="41338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3346560" y="3778200"/>
            <a:ext cx="2450880" cy="260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6"/>
          <a:stretch/>
        </p:blipFill>
        <p:spPr>
          <a:xfrm>
            <a:off x="6373800" y="4133880"/>
            <a:ext cx="2192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3840" y="431640"/>
            <a:ext cx="2006640" cy="205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825640" y="958680"/>
            <a:ext cx="285300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5956200" y="958680"/>
            <a:ext cx="3187800" cy="212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393840" y="34290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5"/>
          <a:stretch/>
        </p:blipFill>
        <p:spPr>
          <a:xfrm>
            <a:off x="3297240" y="3581280"/>
            <a:ext cx="2549520" cy="221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6"/>
          <a:stretch/>
        </p:blipFill>
        <p:spPr>
          <a:xfrm>
            <a:off x="6392880" y="4565520"/>
            <a:ext cx="216072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685800" y="520560"/>
            <a:ext cx="1316160" cy="250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317760" y="1144440"/>
            <a:ext cx="2508480" cy="187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3759120" y="3759120"/>
            <a:ext cx="16257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20:21:36Z</dcterms:created>
  <dc:creator>Silvia Ferreira</dc:creator>
  <dc:description/>
  <dc:language>en-US</dc:language>
  <cp:lastModifiedBy>Eduardo da Silva</cp:lastModifiedBy>
  <dcterms:modified xsi:type="dcterms:W3CDTF">2012-09-19T18:09:35Z</dcterms:modified>
  <cp:revision>2</cp:revision>
  <dc:subject/>
  <dc:title>Slide 1</dc:title>
</cp:coreProperties>
</file>